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52B-997F-41EF-89C9-473CA175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00C-F501-4509-A78D-302D767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4D5-EBD7-4946-919D-F77B86A2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253-4092-4339-B39A-AA97FF69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76A-4566-428F-A2DE-E806932B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B27-A031-4807-B987-ACAE0A1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F7B-3135-4E1A-887B-C9A86CE6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7BD-29DB-4E7D-AE5C-59FC03D9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9B2-1902-4FAF-B3AF-4CF29C47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F67-9161-4748-B6B8-222FA34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01C-5DF5-43B2-8695-BFD8593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066-F4B7-471F-92A6-68CF193A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4F034-01DF-422C-9203-C0E3ED07FC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5E987-FF00-4C70-85BE-E5BB484D1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272160" y="358920"/>
            <a:ext cx="6350760" cy="6151320"/>
            <a:chOff x="272160" y="358920"/>
            <a:chExt cx="6350760" cy="6151320"/>
          </a:xfrm>
        </p:grpSpPr>
        <p:pic>
          <p:nvPicPr>
            <p:cNvPr id="42" name="Picture 12" descr="rules-color-small.bmp"/>
            <p:cNvPicPr/>
            <p:nvPr/>
          </p:nvPicPr>
          <p:blipFill>
            <a:blip r:embed="rId1"/>
            <a:stretch/>
          </p:blipFill>
          <p:spPr>
            <a:xfrm>
              <a:off x="3446280" y="797040"/>
              <a:ext cx="17650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relate-over-time-color-small.bmp"/>
            <p:cNvPicPr/>
            <p:nvPr/>
          </p:nvPicPr>
          <p:blipFill>
            <a:blip r:embed="rId2"/>
            <a:stretch/>
          </p:blipFill>
          <p:spPr>
            <a:xfrm>
              <a:off x="4672080" y="1982880"/>
              <a:ext cx="15825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4" descr="perspectives-color-small.bmp"/>
            <p:cNvPicPr/>
            <p:nvPr/>
          </p:nvPicPr>
          <p:blipFill>
            <a:blip r:embed="rId3"/>
            <a:stretch/>
          </p:blipFill>
          <p:spPr>
            <a:xfrm>
              <a:off x="4425840" y="3794040"/>
              <a:ext cx="182880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5" descr="ethics-color-small.bmp"/>
            <p:cNvPicPr/>
            <p:nvPr/>
          </p:nvPicPr>
          <p:blipFill>
            <a:blip r:embed="rId4"/>
            <a:stretch/>
          </p:blipFill>
          <p:spPr>
            <a:xfrm>
              <a:off x="3447720" y="4543560"/>
              <a:ext cx="1595520" cy="14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6" descr="big-ideas-color-small.bmp"/>
            <p:cNvPicPr/>
            <p:nvPr/>
          </p:nvPicPr>
          <p:blipFill>
            <a:blip r:embed="rId5"/>
            <a:stretch/>
          </p:blipFill>
          <p:spPr>
            <a:xfrm>
              <a:off x="1949040" y="4753080"/>
              <a:ext cx="14968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7" descr="language-discipline-color-small.bmp"/>
            <p:cNvPicPr/>
            <p:nvPr/>
          </p:nvPicPr>
          <p:blipFill>
            <a:blip r:embed="rId6"/>
            <a:stretch/>
          </p:blipFill>
          <p:spPr>
            <a:xfrm>
              <a:off x="593280" y="3622680"/>
              <a:ext cx="176508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unanswered-questions-color-small.bmp"/>
            <p:cNvPicPr/>
            <p:nvPr/>
          </p:nvPicPr>
          <p:blipFill>
            <a:blip r:embed="rId7"/>
            <a:stretch/>
          </p:blipFill>
          <p:spPr>
            <a:xfrm>
              <a:off x="593280" y="2430360"/>
              <a:ext cx="176508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9" descr="details-color-small.bmp"/>
            <p:cNvPicPr/>
            <p:nvPr/>
          </p:nvPicPr>
          <p:blipFill>
            <a:blip r:embed="rId8"/>
            <a:stretch/>
          </p:blipFill>
          <p:spPr>
            <a:xfrm>
              <a:off x="1884240" y="797040"/>
              <a:ext cx="156204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Oval 3"/>
            <p:cNvSpPr/>
            <p:nvPr/>
          </p:nvSpPr>
          <p:spPr>
            <a:xfrm>
              <a:off x="272880" y="358920"/>
              <a:ext cx="6350040" cy="6149880"/>
            </a:xfrm>
            <a:prstGeom prst="ellipse">
              <a:avLst/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5"/>
            <p:cNvSpPr/>
            <p:nvPr/>
          </p:nvSpPr>
          <p:spPr>
            <a:xfrm>
              <a:off x="3446280" y="360360"/>
              <a:ext cx="1440" cy="6149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11"/>
            <p:cNvSpPr/>
            <p:nvPr/>
          </p:nvSpPr>
          <p:spPr>
            <a:xfrm flipH="1">
              <a:off x="1202760" y="1260360"/>
              <a:ext cx="4489560" cy="4348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7"/>
            <p:cNvSpPr/>
            <p:nvPr/>
          </p:nvSpPr>
          <p:spPr>
            <a:xfrm flipV="1">
              <a:off x="272160" y="3433680"/>
              <a:ext cx="635004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9"/>
            <p:cNvSpPr/>
            <p:nvPr/>
          </p:nvSpPr>
          <p:spPr>
            <a:xfrm>
              <a:off x="1202400" y="1260360"/>
              <a:ext cx="4489560" cy="4348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ight Arrow 15"/>
          <p:cNvSpPr/>
          <p:nvPr/>
        </p:nvSpPr>
        <p:spPr>
          <a:xfrm rot="16200000">
            <a:off x="6222960" y="2340000"/>
            <a:ext cx="2873520" cy="714240"/>
          </a:xfrm>
          <a:prstGeom prst="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6:40:45Z</dcterms:created>
  <dc:creator>CCPS</dc:creator>
  <dc:description/>
  <dc:language>en-US</dc:language>
  <cp:lastModifiedBy>CCPS</cp:lastModifiedBy>
  <cp:lastPrinted>2011-09-23T17:54:01Z</cp:lastPrinted>
  <dcterms:modified xsi:type="dcterms:W3CDTF">2011-09-23T17:55:56Z</dcterms:modified>
  <cp:revision>2</cp:revision>
  <dc:subject/>
  <dc:title>Slide 1</dc:title>
</cp:coreProperties>
</file>